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959-EA7D-477D-BAE6-FD9952F3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7E4-13DA-4645-B0D2-0BE42B02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72F-9A8E-4D99-A0C2-D0DA32E5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D58-5F37-4C81-9B3D-AF55AC62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8643-F770-4C32-9559-3499D3D8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2907-9F97-4C4D-B4ED-B07BF9C7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61CC-A625-4001-9817-FB8E552D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7298-50AC-4C57-A6A3-4B4DA652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256C-0F54-4081-B8DA-C2C1A196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C305-1863-46F2-82A0-5AD253DF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35DC-B885-4F90-A7DB-ADCE9D5C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CCA-4B37-4DBD-9336-2151EC0E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513F-9C50-4117-B88F-BD539164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FC98-1064-45E7-A2E6-C8775838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E200-3E2F-47AB-AD7E-9C8B9235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9676-AFBC-4474-867B-B21EDEA4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972D-9404-4608-AD43-F878BCA4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31F-9A3C-4387-9448-77260F0A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780-D510-4DA9-8E50-4B9A805B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677-A606-4738-ADD2-AC158D33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CA7-54F3-49EA-A562-4198D3EA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226-95A4-4AFB-A1AD-4DB66D48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0E9-7D30-4342-A4B7-870F7898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66C-5701-4F0F-B72F-4E3D3EA8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8E3E-8ED3-4BE8-A017-649E8D3A69C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E97F-2537-4B27-9141-F071D693DD0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schoolsearch?p=0&amp;text=&#1088;&#1080;&#1089;&#1091;&#1085;&#1082;&#1080;%20%20&#1057;&#1091;&#1090;&#1077;&#1077;&#1074;&#1072;%20%22&#1044;&#1103;&#1076;&#1103;%20&#1052;&#1080;&#1096;&#1072;%22&amp;spsite=publ.lib.ru&amp;clid=46021&amp;img_url=vokrugskazki.narod.ru%2FMedvedskaz%2Fmedvedi%2FDjadjaMisha.files%2Fimage001.jpg&amp;rpt=simage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1847880" cy="1428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1700280" y="2265480"/>
            <a:ext cx="2095560" cy="1428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932360" y="1125360"/>
            <a:ext cx="2473200" cy="185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5357880" y="3645000"/>
            <a:ext cx="2047680" cy="142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5"/>
          <a:stretch/>
        </p:blipFill>
        <p:spPr>
          <a:xfrm>
            <a:off x="1824120" y="405612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0" t="1665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0" t="0" r="0" b="80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84360" y="333360"/>
            <a:ext cx="4319640" cy="575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3780000" y="2205000"/>
            <a:ext cx="1800000" cy="1728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2916360" y="404640"/>
            <a:ext cx="3240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78040" y="336600"/>
            <a:ext cx="300528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те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411280" y="189000"/>
            <a:ext cx="4319640" cy="575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916360" y="4365720"/>
            <a:ext cx="345600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ядя Миш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3780000" y="1628640"/>
            <a:ext cx="1871640" cy="1871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2340000" y="1484280"/>
            <a:ext cx="4753080" cy="3600360"/>
            <a:chOff x="2340000" y="1484280"/>
            <a:chExt cx="4753080" cy="3600360"/>
          </a:xfrm>
        </p:grpSpPr>
        <p:sp>
          <p:nvSpPr>
            <p:cNvPr id="194" name="AutoShape 5"/>
            <p:cNvSpPr/>
            <p:nvPr/>
          </p:nvSpPr>
          <p:spPr>
            <a:xfrm>
              <a:off x="2340000" y="1484280"/>
              <a:ext cx="4753080" cy="36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Oval 6"/>
            <p:cNvSpPr/>
            <p:nvPr/>
          </p:nvSpPr>
          <p:spPr>
            <a:xfrm>
              <a:off x="3085200" y="1484280"/>
              <a:ext cx="4007160" cy="351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8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392436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5580000" y="220500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5003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8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4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7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8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9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2484360" y="1628640"/>
            <a:ext cx="100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12"/>
          <p:cNvSpPr/>
          <p:nvPr/>
        </p:nvSpPr>
        <p:spPr>
          <a:xfrm>
            <a:off x="3635280" y="227664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67811[1]"/>
          <p:cNvPicPr/>
          <p:nvPr/>
        </p:nvPicPr>
        <p:blipFill>
          <a:blip r:embed="rId1"/>
          <a:stretch/>
        </p:blipFill>
        <p:spPr>
          <a:xfrm>
            <a:off x="0" y="-106200"/>
            <a:ext cx="9325080" cy="7102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6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Мёд в лесу медведь нашёл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Мало мёду, много пчёл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8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9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11"/>
          <p:cNvSpPr/>
          <p:nvPr/>
        </p:nvSpPr>
        <p:spPr>
          <a:xfrm>
            <a:off x="2484360" y="1628640"/>
            <a:ext cx="100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635280" y="227664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2771640" y="3068640"/>
            <a:ext cx="10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95640" y="2923920"/>
            <a:ext cx="28908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Oval 4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13"/>
          <p:cNvSpPr/>
          <p:nvPr/>
        </p:nvSpPr>
        <p:spPr>
          <a:xfrm>
            <a:off x="2484360" y="1628640"/>
            <a:ext cx="100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3635280" y="227664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15"/>
          <p:cNvSpPr/>
          <p:nvPr/>
        </p:nvSpPr>
        <p:spPr>
          <a:xfrm>
            <a:off x="2771640" y="3068640"/>
            <a:ext cx="10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16"/>
          <p:cNvSpPr/>
          <p:nvPr/>
        </p:nvSpPr>
        <p:spPr>
          <a:xfrm flipV="1">
            <a:off x="3995640" y="2923920"/>
            <a:ext cx="28908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17"/>
          <p:cNvSpPr/>
          <p:nvPr/>
        </p:nvSpPr>
        <p:spPr>
          <a:xfrm>
            <a:off x="4932360" y="3141720"/>
            <a:ext cx="115092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5003640" y="29973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9185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"Эх, дядя Миша! " – пискнул Мышонок. Он хотел, видно, еще что-то сказать, да только махнул лапкой, свистнул и побежал дальше. А что тут скажеш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i?id=85085874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0"/>
            <a:ext cx="61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345" t="774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0" t="13332" r="8593" b="1134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11575" t="0" r="25366" b="98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rcRect l="0" t="1335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10379" t="0" r="16954" b="168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4:10:00Z</dcterms:created>
  <dc:creator>Customer</dc:creator>
  <dc:description/>
  <dc:language>en-US</dc:language>
  <cp:lastModifiedBy>Светлана</cp:lastModifiedBy>
  <dcterms:modified xsi:type="dcterms:W3CDTF">2013-10-20T11:46:38Z</dcterms:modified>
  <cp:revision>8</cp:revision>
  <dc:subject/>
  <dc:title>Слайд 1</dc:title>
</cp:coreProperties>
</file>